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4EB-F6A7-4551-8BC5-EF8410C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FCF-B72E-4223-9B70-D0B014F7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DFC-16F0-487C-9892-29E6FAB1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6C9-F7A8-4959-948A-6104EB27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492-D83D-4087-9FA7-5EDBDAF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E32-66F1-4170-84F3-521C38D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69D-4488-4A9B-B6FD-A59A8616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739-6AE0-4C3B-8459-34FA7B2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7D2-38EA-4B6C-AA8F-53F09CB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46F-A878-4719-BFBF-A9A1F0D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B8A-9AB8-4E38-9383-B259341C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156-018D-443D-B984-9BB7DBB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8DC-E277-48EF-B47A-A5C43EF0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 5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and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20968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 – Writing fractions as dec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 – Writing decimals as f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82296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115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1197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7724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05560" cy="28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55767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66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98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2:43:22Z</dcterms:created>
  <dc:creator>Susannah Graham</dc:creator>
  <dc:description/>
  <dc:language>en-US</dc:language>
  <cp:lastModifiedBy>grahams</cp:lastModifiedBy>
  <dcterms:modified xsi:type="dcterms:W3CDTF">2012-10-02T13:15:57Z</dcterms:modified>
  <cp:revision>4</cp:revision>
  <dc:subject/>
  <dc:title>Slide 1</dc:title>
</cp:coreProperties>
</file>